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86F-2D14-47CE-884F-A54C4826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8C1-611C-49DF-8F5A-D99634F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679-9600-4AC8-BF90-CAACDF62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1A0-DA6B-4EBB-B996-D94933A9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AAC0-023F-4CD5-91B2-C30D99D6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0884-25D6-4337-91B3-A7F1404F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C333-BFA0-4754-AFDA-802CA474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ADBB-8FAF-422C-B240-6C6C7C1F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7F28-5F4A-4DD8-BA03-FCEFE8EB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C8A3-EA8A-4BDE-8738-976ED307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EBE3-C7BC-4B9B-97A1-72F000FF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2B0-788B-4837-9002-C09FCA8D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9508-B312-408E-98C8-2C94BB1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C1B5-26A6-4DC1-BED1-0C63FEE2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BDA0-C803-40D1-9951-9845B0FE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2212-E674-485B-988A-77DEB1FA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C5D-E752-421D-95E1-EEC21F32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34F8-09D6-41D8-9653-2C48B05F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F448-9078-4824-833E-3D8DD694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F09D-62D7-4EAF-96E2-D20EAC34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FAB1-CE81-427A-B096-0E202979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3093-8A65-4FBF-9B19-07510E9F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42D-6E65-412D-8104-433D295A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D954-EDF0-408D-A723-5AB8165A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9370-A2CE-4069-B3ED-5E9D10BE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D7A5-A2F1-48D0-90A3-4564AEB6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3AB3-7383-478D-A9ED-C5BE1EA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4D0A-62E6-4D24-8264-AC3950D4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3F8B-44E5-4EB0-90BE-7851200D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6883-F9B5-4882-8B1B-467E19FC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C37-72AD-4E72-AD38-A871A405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936-BE9B-400B-9750-0A8CE443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9960"/>
            <a:ext cx="82263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F7F-1888-42B7-A2DF-F5D1A359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5D4-C9BA-43C1-9575-ED09FB7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B1D-EB1F-4CBE-9D14-A1229AD4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B3D-1B9D-4FAC-943F-10DEC58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283db7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7AC02-7875-4184-8349-8654065C944D}" type="slidenum">
              <a:rPr b="0" lang="en-US" sz="1400" spc="-1" strike="noStrike">
                <a:solidFill>
                  <a:srgbClr val="283db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42" name=""/>
            <p:cNvSpPr/>
            <p:nvPr/>
          </p:nvSpPr>
          <p:spPr>
            <a:xfrm>
              <a:off x="8007120" y="4167720"/>
              <a:ext cx="114120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4856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5120" y="6688440"/>
              <a:ext cx="13320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46" name=""/>
              <p:cNvSpPr/>
              <p:nvPr/>
            </p:nvSpPr>
            <p:spPr>
              <a:xfrm>
                <a:off x="4425480" y="0"/>
                <a:ext cx="11376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1400" y="0"/>
                <a:ext cx="27576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28000" y="0"/>
                <a:ext cx="53460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272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1120" y="0"/>
                <a:ext cx="88488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7400" y="0"/>
                <a:ext cx="109440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516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628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0840" y="0"/>
                <a:ext cx="47592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47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8956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38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684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000" y="4604400"/>
              <a:ext cx="96192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0" y="6174000"/>
              <a:ext cx="36180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0160" y="0"/>
              <a:ext cx="156168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064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4560" y="0"/>
              <a:ext cx="64728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0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0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9960"/>
            <a:ext cx="82263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010DFF7-41A1-4E70-9E5B-8FA06C63F4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120" name=""/>
            <p:cNvSpPr/>
            <p:nvPr/>
          </p:nvSpPr>
          <p:spPr>
            <a:xfrm>
              <a:off x="8006040" y="4167720"/>
              <a:ext cx="1140840" cy="268200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7120" y="6021360"/>
              <a:ext cx="599760" cy="82836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4040" y="6688440"/>
              <a:ext cx="132840" cy="16128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4040" y="0"/>
                <a:ext cx="114120" cy="684864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9960" y="0"/>
                <a:ext cx="276120" cy="684864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6920" y="0"/>
                <a:ext cx="534960" cy="684864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1640" y="0"/>
                <a:ext cx="677520" cy="684864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0040" y="0"/>
                <a:ext cx="885600" cy="684864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5960" y="0"/>
                <a:ext cx="1094760" cy="684864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4080" y="0"/>
                <a:ext cx="1370880" cy="684864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5200" y="0"/>
                <a:ext cx="237600" cy="684864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9760" y="0"/>
                <a:ext cx="475560" cy="684864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2920" y="0"/>
                <a:ext cx="674280" cy="684864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120" y="0"/>
                <a:ext cx="912240" cy="684864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040" y="0"/>
                <a:ext cx="1169280" cy="684864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2720" cy="684864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4400"/>
              <a:ext cx="961560" cy="224532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4000"/>
              <a:ext cx="361440" cy="67572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0"/>
              <a:ext cx="1562040" cy="283464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99560" y="0"/>
              <a:ext cx="1141200" cy="134100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3120" y="0"/>
              <a:ext cx="647640" cy="65700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596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40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60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04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8EE67F-173F-423F-A9E8-F66047DFE0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20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7200" spc="-1" strike="noStrike" u="sng">
                <a:solidFill>
                  <a:srgbClr val="ffff00"/>
                </a:solidFill>
                <a:uFillTx/>
                <a:latin typeface="Arial"/>
              </a:rPr>
              <a:t>Новая Зеланд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4475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Сфера обслужив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403848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вается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В сфере обслуживания работ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7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003640" y="414360"/>
            <a:ext cx="4011840" cy="3009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233880" y="3749760"/>
            <a:ext cx="4182840" cy="2873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12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Транспор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403848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железнодорож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путей 42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лина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шоссейных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дорог 93 30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Паромны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маршруты  Веллингтон – о.Южны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еждународные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аэропорты: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кленд,   Крайстчерч, Веллингт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8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орской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анспор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998640"/>
            <a:ext cx="3173400" cy="2570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49840" y="3665520"/>
            <a:ext cx="3203640" cy="2405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8085240" y="6308640"/>
            <a:ext cx="374400" cy="289080"/>
          </a:xfrm>
          <a:custGeom>
            <a:avLst/>
            <a:gdLst>
              <a:gd name="textAreaLeft" fmla="*/ 18720 w 374400"/>
              <a:gd name="textAreaRight" fmla="*/ 355680 w 3744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7967" h="21600">
                <a:moveTo>
                  <a:pt x="0" y="0"/>
                </a:moveTo>
                <a:lnTo>
                  <a:pt x="27967" y="0"/>
                </a:lnTo>
                <a:lnTo>
                  <a:pt x="27967" y="21600"/>
                </a:lnTo>
                <a:lnTo>
                  <a:pt x="0" y="21600"/>
                </a:lnTo>
                <a:close/>
              </a:path>
              <a:path fill="lightenLess" w="27967" h="21600">
                <a:moveTo>
                  <a:pt x="0" y="0"/>
                </a:moveTo>
                <a:lnTo>
                  <a:pt x="27967" y="0"/>
                </a:lnTo>
                <a:lnTo>
                  <a:pt x="26567" y="1400"/>
                </a:lnTo>
                <a:lnTo>
                  <a:pt x="1400" y="1400"/>
                </a:lnTo>
                <a:close/>
              </a:path>
              <a:path fill="darken" w="27967" h="21600">
                <a:moveTo>
                  <a:pt x="27967" y="0"/>
                </a:moveTo>
                <a:lnTo>
                  <a:pt x="27967" y="21600"/>
                </a:lnTo>
                <a:lnTo>
                  <a:pt x="26567" y="20200"/>
                </a:lnTo>
                <a:lnTo>
                  <a:pt x="26567" y="1400"/>
                </a:lnTo>
                <a:close/>
              </a:path>
              <a:path fill="darkenLess" w="27967" h="21600">
                <a:moveTo>
                  <a:pt x="279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7" y="20200"/>
                </a:lnTo>
                <a:close/>
              </a:path>
              <a:path fill="lighten" w="279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7" h="21600">
                <a:moveTo>
                  <a:pt x="6977" y="10800"/>
                </a:moveTo>
                <a:lnTo>
                  <a:pt x="20990" y="3794"/>
                </a:lnTo>
                <a:lnTo>
                  <a:pt x="2099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-95760"/>
            <a:ext cx="627516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Столица – Веллингтон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Город расположен на северном берегу пролива Кука, в бухте Потр – Никольсон.    Площадь125 кв. км.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селение 158 тыс. чел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09880" cy="30286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477120" y="620640"/>
            <a:ext cx="2143080" cy="2592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427640" y="3500280"/>
            <a:ext cx="43923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В сентябре 1839 года группа белых переселенцев приобрела у местного племени маори участок, на котором был построен город, названный в честь фельдмаршала </a:t>
            </a:r>
            <a:r>
              <a:rPr b="0" i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Веллингтона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командовавшего английскими войсками в сражении при Ватерл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8039160" y="6237360"/>
            <a:ext cx="349200" cy="288720"/>
          </a:xfrm>
          <a:custGeom>
            <a:avLst/>
            <a:gdLst>
              <a:gd name="textAreaLeft" fmla="*/ 18720 w 349200"/>
              <a:gd name="textAreaRight" fmla="*/ 330480 w 3492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75600" y="57848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-149400"/>
            <a:ext cx="8218440" cy="27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клад в цивилизацию. </a:t>
            </a:r>
            <a:br>
              <a:rPr sz="18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Эрнст Резерфорд</a:t>
            </a:r>
            <a:br>
              <a:rPr sz="3600"/>
            </a:b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1871 – 1937</a:t>
            </a: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) </a:t>
            </a:r>
            <a:br>
              <a:rPr sz="36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873520" cy="4525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106800" y="2562120"/>
            <a:ext cx="58626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Величайший физик – экспериментатор двадцатого столе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Центральная фигура в познании радиоактивности, заложил основы ядерной физики. Его открытия получили широкий спектр применения, включая ядерное оружие, атомные электростанции, радиоактивные исчисления, исследования ради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1708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8153280" y="6308640"/>
            <a:ext cx="379440" cy="289080"/>
          </a:xfrm>
          <a:custGeom>
            <a:avLst/>
            <a:gdLst>
              <a:gd name="textAreaLeft" fmla="*/ 18720 w 379440"/>
              <a:gd name="textAreaRight" fmla="*/ 360720 w 37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343" h="21600">
                <a:moveTo>
                  <a:pt x="0" y="0"/>
                </a:moveTo>
                <a:lnTo>
                  <a:pt x="28343" y="0"/>
                </a:lnTo>
                <a:lnTo>
                  <a:pt x="28343" y="21600"/>
                </a:lnTo>
                <a:lnTo>
                  <a:pt x="0" y="21600"/>
                </a:lnTo>
                <a:close/>
              </a:path>
              <a:path fill="lightenLess" w="28343" h="21600">
                <a:moveTo>
                  <a:pt x="0" y="0"/>
                </a:moveTo>
                <a:lnTo>
                  <a:pt x="28343" y="0"/>
                </a:lnTo>
                <a:lnTo>
                  <a:pt x="26943" y="1400"/>
                </a:lnTo>
                <a:lnTo>
                  <a:pt x="1400" y="1400"/>
                </a:lnTo>
                <a:close/>
              </a:path>
              <a:path fill="darken" w="28343" h="21600">
                <a:moveTo>
                  <a:pt x="28343" y="0"/>
                </a:moveTo>
                <a:lnTo>
                  <a:pt x="28343" y="21600"/>
                </a:lnTo>
                <a:lnTo>
                  <a:pt x="26943" y="20200"/>
                </a:lnTo>
                <a:lnTo>
                  <a:pt x="26943" y="1400"/>
                </a:lnTo>
                <a:close/>
              </a:path>
              <a:path fill="darkenLess" w="28343" h="21600">
                <a:moveTo>
                  <a:pt x="28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43" y="20200"/>
                </a:lnTo>
                <a:close/>
              </a:path>
              <a:path fill="lighten" w="28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43" h="21600">
                <a:moveTo>
                  <a:pt x="7165" y="10800"/>
                </a:moveTo>
                <a:lnTo>
                  <a:pt x="21178" y="3794"/>
                </a:lnTo>
                <a:lnTo>
                  <a:pt x="21178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6000" y="248760"/>
            <a:ext cx="87202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Культура. </a:t>
            </a:r>
            <a:br>
              <a:rPr sz="36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ражены элементы европейских, полинезийских, азиатских культурных традиций, привнесенных выходцами из многих стран мира, поселившимися здесь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7960" y="2585880"/>
            <a:ext cx="2246400" cy="32194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7308720" y="2732040"/>
            <a:ext cx="1457280" cy="1704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743200" y="3503520"/>
            <a:ext cx="4343400" cy="29480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7983360" y="6308640"/>
            <a:ext cx="335160" cy="289080"/>
          </a:xfrm>
          <a:custGeom>
            <a:avLst/>
            <a:gdLst>
              <a:gd name="textAreaLeft" fmla="*/ 18720 w 335160"/>
              <a:gd name="textAreaRight" fmla="*/ 316440 w 3351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5039" h="21600">
                <a:moveTo>
                  <a:pt x="0" y="0"/>
                </a:moveTo>
                <a:lnTo>
                  <a:pt x="25039" y="0"/>
                </a:lnTo>
                <a:lnTo>
                  <a:pt x="25039" y="21600"/>
                </a:lnTo>
                <a:lnTo>
                  <a:pt x="0" y="21600"/>
                </a:lnTo>
                <a:close/>
              </a:path>
              <a:path fill="lightenLess" w="25039" h="21600">
                <a:moveTo>
                  <a:pt x="0" y="0"/>
                </a:moveTo>
                <a:lnTo>
                  <a:pt x="25039" y="0"/>
                </a:lnTo>
                <a:lnTo>
                  <a:pt x="23639" y="1400"/>
                </a:lnTo>
                <a:lnTo>
                  <a:pt x="1400" y="1400"/>
                </a:lnTo>
                <a:close/>
              </a:path>
              <a:path fill="darken" w="25039" h="21600">
                <a:moveTo>
                  <a:pt x="25039" y="0"/>
                </a:moveTo>
                <a:lnTo>
                  <a:pt x="25039" y="21600"/>
                </a:lnTo>
                <a:lnTo>
                  <a:pt x="23639" y="20200"/>
                </a:lnTo>
                <a:lnTo>
                  <a:pt x="23639" y="1400"/>
                </a:lnTo>
                <a:close/>
              </a:path>
              <a:path fill="darkenLess" w="25039" h="21600">
                <a:moveTo>
                  <a:pt x="25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9" y="20200"/>
                </a:lnTo>
                <a:close/>
              </a:path>
              <a:path fill="lighten" w="25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39" h="21600">
                <a:moveTo>
                  <a:pt x="5513" y="10800"/>
                </a:moveTo>
                <a:lnTo>
                  <a:pt x="19526" y="3794"/>
                </a:lnTo>
                <a:lnTo>
                  <a:pt x="195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798360" y="271080"/>
            <a:ext cx="517068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ровне высочайших стандартов поддерживается архитектура, симфоническая и современная музыка, театр и кино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Рассел Кроу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популярный актер, ставший кумиром киноманов после получения «Оскара» за исполнение главной роли в фильме «Гладиатор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240000" cy="458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насе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Форма правл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Географическое полож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Особенности рельеф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Вклад в цивилиз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6600" indent="-606600">
              <a:lnSpc>
                <a:spcPct val="91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Verdan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248000" cy="322272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524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07544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5757840" cy="64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Площадь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269 675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lnSpc>
                <a:spcPct val="91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Население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3 620 000 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лотность населения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12 чел/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-282600">
              <a:lnSpc>
                <a:spcPct val="102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Средняя продолжительность жизни: 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ужчины – 75 лет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енщины – 80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98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91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Состав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европейцы – 88%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маори – 9%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жители островов Тихого океана – 3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7640" y="0"/>
            <a:ext cx="3816360" cy="229068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00884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43520" cy="63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Форма правлен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конституционная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лава государства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 королева Великобритании, представленная генерал – губернато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Государственный язык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англий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Религия: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христианст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8800" y="1031760"/>
            <a:ext cx="3279600" cy="362124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Оке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601"/>
              </a:spcBef>
              <a:spcAft>
                <a:spcPts val="2837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упнейшие остр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верный и Ю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7086600" y="6308640"/>
            <a:ext cx="353880" cy="289080"/>
          </a:xfrm>
          <a:custGeom>
            <a:avLst/>
            <a:gdLst>
              <a:gd name="textAreaLeft" fmla="*/ 18720 w 353880"/>
              <a:gd name="textAreaRight" fmla="*/ 335160 w 353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436" h="21600">
                <a:moveTo>
                  <a:pt x="0" y="0"/>
                </a:moveTo>
                <a:lnTo>
                  <a:pt x="26436" y="0"/>
                </a:lnTo>
                <a:lnTo>
                  <a:pt x="26436" y="21600"/>
                </a:lnTo>
                <a:lnTo>
                  <a:pt x="0" y="21600"/>
                </a:lnTo>
                <a:close/>
              </a:path>
              <a:path fill="lightenLess" w="26436" h="21600">
                <a:moveTo>
                  <a:pt x="0" y="0"/>
                </a:moveTo>
                <a:lnTo>
                  <a:pt x="26436" y="0"/>
                </a:lnTo>
                <a:lnTo>
                  <a:pt x="25036" y="1400"/>
                </a:lnTo>
                <a:lnTo>
                  <a:pt x="1400" y="1400"/>
                </a:lnTo>
                <a:close/>
              </a:path>
              <a:path fill="darken" w="26436" h="21600">
                <a:moveTo>
                  <a:pt x="26436" y="0"/>
                </a:moveTo>
                <a:lnTo>
                  <a:pt x="26436" y="21600"/>
                </a:lnTo>
                <a:lnTo>
                  <a:pt x="25036" y="20200"/>
                </a:lnTo>
                <a:lnTo>
                  <a:pt x="25036" y="1400"/>
                </a:lnTo>
                <a:close/>
              </a:path>
              <a:path fill="darkenLess" w="26436" h="21600">
                <a:moveTo>
                  <a:pt x="26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36" y="20200"/>
                </a:lnTo>
                <a:close/>
              </a:path>
              <a:path fill="lighten" w="26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36" h="21600">
                <a:moveTo>
                  <a:pt x="6211" y="10800"/>
                </a:moveTo>
                <a:lnTo>
                  <a:pt x="20224" y="3794"/>
                </a:lnTo>
                <a:lnTo>
                  <a:pt x="20224" y="17806"/>
                </a:lnTo>
                <a:close/>
              </a:path>
            </a:pathLst>
          </a:cu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9280" y="252108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Особенности рельеф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истые остро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Сейсмическая активнос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Действующие вулкан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ейз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Горячие минеральные источни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2556000" y="60357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39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39" y="20200"/>
                </a:lnTo>
                <a:lnTo>
                  <a:pt x="36339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39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39" h="21600">
                <a:moveTo>
                  <a:pt x="18870" y="3837"/>
                </a:moveTo>
                <a:lnTo>
                  <a:pt x="21446" y="6448"/>
                </a:ln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lnTo>
                  <a:pt x="25833" y="10800"/>
                </a:lnTo>
                <a:lnTo>
                  <a:pt x="24179" y="10800"/>
                </a:lnTo>
                <a:lnTo>
                  <a:pt x="24179" y="17989"/>
                </a:lnTo>
                <a:lnTo>
                  <a:pt x="13560" y="17989"/>
                </a:lnTo>
                <a:lnTo>
                  <a:pt x="13560" y="10800"/>
                </a:lnTo>
                <a:lnTo>
                  <a:pt x="11907" y="10800"/>
                </a:lnTo>
                <a:close/>
              </a:path>
              <a:path fill="darkenLess" w="37739" h="21600">
                <a:moveTo>
                  <a:pt x="21446" y="6448"/>
                </a:moveTo>
                <a:lnTo>
                  <a:pt x="21446" y="4707"/>
                </a:lnTo>
                <a:lnTo>
                  <a:pt x="23222" y="4707"/>
                </a:lnTo>
                <a:lnTo>
                  <a:pt x="23222" y="8224"/>
                </a:lnTo>
                <a:close/>
              </a:path>
              <a:path fill="darkenLess" w="37739" h="21600">
                <a:moveTo>
                  <a:pt x="17947" y="14299"/>
                </a:moveTo>
                <a:lnTo>
                  <a:pt x="19792" y="14299"/>
                </a:lnTo>
                <a:lnTo>
                  <a:pt x="19792" y="17989"/>
                </a:lnTo>
                <a:lnTo>
                  <a:pt x="24179" y="17989"/>
                </a:lnTo>
                <a:lnTo>
                  <a:pt x="24179" y="10800"/>
                </a:lnTo>
                <a:lnTo>
                  <a:pt x="13560" y="10800"/>
                </a:lnTo>
                <a:lnTo>
                  <a:pt x="13560" y="17989"/>
                </a:lnTo>
                <a:lnTo>
                  <a:pt x="17947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843280" y="6407280"/>
            <a:ext cx="360360" cy="282600"/>
          </a:xfrm>
          <a:custGeom>
            <a:avLst/>
            <a:gdLst>
              <a:gd name="textAreaLeft" fmla="*/ 18000 w 360360"/>
              <a:gd name="textAreaRight" fmla="*/ 342360 w 36036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7536" h="21600">
                <a:moveTo>
                  <a:pt x="0" y="0"/>
                </a:moveTo>
                <a:lnTo>
                  <a:pt x="27536" y="0"/>
                </a:lnTo>
                <a:lnTo>
                  <a:pt x="27536" y="21600"/>
                </a:lnTo>
                <a:lnTo>
                  <a:pt x="0" y="21600"/>
                </a:lnTo>
                <a:close/>
              </a:path>
              <a:path fill="lightenLess" w="27536" h="21600">
                <a:moveTo>
                  <a:pt x="0" y="0"/>
                </a:moveTo>
                <a:lnTo>
                  <a:pt x="27536" y="0"/>
                </a:lnTo>
                <a:lnTo>
                  <a:pt x="26136" y="1400"/>
                </a:lnTo>
                <a:lnTo>
                  <a:pt x="1400" y="1400"/>
                </a:lnTo>
                <a:close/>
              </a:path>
              <a:path fill="darken" w="27536" h="21600">
                <a:moveTo>
                  <a:pt x="27536" y="0"/>
                </a:moveTo>
                <a:lnTo>
                  <a:pt x="27536" y="21600"/>
                </a:lnTo>
                <a:lnTo>
                  <a:pt x="26136" y="20200"/>
                </a:lnTo>
                <a:lnTo>
                  <a:pt x="26136" y="1400"/>
                </a:lnTo>
                <a:close/>
              </a:path>
              <a:path fill="darkenLess" w="27536" h="21600">
                <a:moveTo>
                  <a:pt x="27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36" y="20200"/>
                </a:lnTo>
                <a:close/>
              </a:path>
              <a:path fill="lighten" w="27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36" h="21600">
                <a:moveTo>
                  <a:pt x="6761" y="3794"/>
                </a:moveTo>
                <a:lnTo>
                  <a:pt x="20774" y="10800"/>
                </a:lnTo>
                <a:lnTo>
                  <a:pt x="676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2392200" y="6396120"/>
            <a:ext cx="379440" cy="282600"/>
          </a:xfrm>
          <a:custGeom>
            <a:avLst/>
            <a:gdLst>
              <a:gd name="textAreaLeft" fmla="*/ 18000 w 379440"/>
              <a:gd name="textAreaRight" fmla="*/ 361440 w 379440"/>
              <a:gd name="textAreaTop" fmla="*/ 18000 h 282600"/>
              <a:gd name="textAreaBottom" fmla="*/ 264600 h 282600"/>
            </a:gdLst>
            <a:ahLst/>
            <a:rect l="textAreaLeft" t="textAreaTop" r="textAreaRight" b="textAreaBottom"/>
            <a:pathLst>
              <a:path w="28992" h="21600">
                <a:moveTo>
                  <a:pt x="0" y="0"/>
                </a:moveTo>
                <a:lnTo>
                  <a:pt x="28992" y="0"/>
                </a:lnTo>
                <a:lnTo>
                  <a:pt x="28992" y="21600"/>
                </a:lnTo>
                <a:lnTo>
                  <a:pt x="0" y="21600"/>
                </a:lnTo>
                <a:close/>
              </a:path>
              <a:path fill="lightenLess" w="28992" h="21600">
                <a:moveTo>
                  <a:pt x="0" y="0"/>
                </a:moveTo>
                <a:lnTo>
                  <a:pt x="28992" y="0"/>
                </a:lnTo>
                <a:lnTo>
                  <a:pt x="27592" y="1400"/>
                </a:lnTo>
                <a:lnTo>
                  <a:pt x="1400" y="1400"/>
                </a:lnTo>
                <a:close/>
              </a:path>
              <a:path fill="darken" w="28992" h="21600">
                <a:moveTo>
                  <a:pt x="28992" y="0"/>
                </a:moveTo>
                <a:lnTo>
                  <a:pt x="28992" y="21600"/>
                </a:lnTo>
                <a:lnTo>
                  <a:pt x="27592" y="20200"/>
                </a:lnTo>
                <a:lnTo>
                  <a:pt x="27592" y="1400"/>
                </a:lnTo>
                <a:close/>
              </a:path>
              <a:path fill="darkenLess" w="28992" h="21600">
                <a:moveTo>
                  <a:pt x="28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2" y="20200"/>
                </a:lnTo>
                <a:close/>
              </a:path>
              <a:path fill="lighten" w="28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92" h="21600">
                <a:moveTo>
                  <a:pt x="7490" y="10800"/>
                </a:moveTo>
                <a:lnTo>
                  <a:pt x="21503" y="3794"/>
                </a:lnTo>
                <a:lnTo>
                  <a:pt x="2150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Климат: субтропический морской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июля 5 – 12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Средние температуры января 14 – 19 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83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Осадки: 400 -600 мм в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464000" cy="423396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2" action="ppaction://hlinksldjump"/>
          </p:cNvPr>
          <p:cNvSpPr/>
          <p:nvPr/>
        </p:nvSpPr>
        <p:spPr>
          <a:xfrm>
            <a:off x="2124000" y="5805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15133" y="3837"/>
                </a:moveTo>
                <a:lnTo>
                  <a:pt x="17709" y="6448"/>
                </a:ln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lnTo>
                  <a:pt x="22096" y="10800"/>
                </a:lnTo>
                <a:lnTo>
                  <a:pt x="20442" y="10800"/>
                </a:lnTo>
                <a:lnTo>
                  <a:pt x="20442" y="17989"/>
                </a:lnTo>
                <a:lnTo>
                  <a:pt x="9824" y="17989"/>
                </a:lnTo>
                <a:lnTo>
                  <a:pt x="9824" y="10800"/>
                </a:lnTo>
                <a:lnTo>
                  <a:pt x="8170" y="10800"/>
                </a:lnTo>
                <a:close/>
              </a:path>
              <a:path fill="darkenLess" w="30266" h="21600">
                <a:moveTo>
                  <a:pt x="17709" y="6448"/>
                </a:moveTo>
                <a:lnTo>
                  <a:pt x="17709" y="4707"/>
                </a:lnTo>
                <a:lnTo>
                  <a:pt x="19485" y="4707"/>
                </a:lnTo>
                <a:lnTo>
                  <a:pt x="19485" y="8224"/>
                </a:lnTo>
                <a:close/>
              </a:path>
              <a:path fill="darkenLess" w="30266" h="21600">
                <a:moveTo>
                  <a:pt x="14210" y="14299"/>
                </a:moveTo>
                <a:lnTo>
                  <a:pt x="16056" y="14299"/>
                </a:lnTo>
                <a:lnTo>
                  <a:pt x="16056" y="17989"/>
                </a:lnTo>
                <a:lnTo>
                  <a:pt x="20442" y="17989"/>
                </a:lnTo>
                <a:lnTo>
                  <a:pt x="20442" y="10800"/>
                </a:lnTo>
                <a:lnTo>
                  <a:pt x="9824" y="10800"/>
                </a:lnTo>
                <a:lnTo>
                  <a:pt x="9824" y="17989"/>
                </a:lnTo>
                <a:lnTo>
                  <a:pt x="1421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2411280" y="6237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3794"/>
                </a:moveTo>
                <a:lnTo>
                  <a:pt x="20483" y="10800"/>
                </a:lnTo>
                <a:lnTo>
                  <a:pt x="6470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1908000" y="623736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10800"/>
                </a:moveTo>
                <a:lnTo>
                  <a:pt x="23159" y="3794"/>
                </a:lnTo>
                <a:lnTo>
                  <a:pt x="23159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Промышлен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305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Занято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19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трудоспособного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Дает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31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ВП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6240" indent="-3362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Машиностроительные,  металлургические и текстильные предприятия сосредоточены в крупных портовых города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43520" y="233676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751356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7064280" y="6308640"/>
            <a:ext cx="376200" cy="289080"/>
          </a:xfrm>
          <a:custGeom>
            <a:avLst/>
            <a:gdLst>
              <a:gd name="textAreaLeft" fmla="*/ 18720 w 376200"/>
              <a:gd name="textAreaRight" fmla="*/ 357480 w 3762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8101" h="21600">
                <a:moveTo>
                  <a:pt x="0" y="0"/>
                </a:moveTo>
                <a:lnTo>
                  <a:pt x="28101" y="0"/>
                </a:lnTo>
                <a:lnTo>
                  <a:pt x="28101" y="21600"/>
                </a:lnTo>
                <a:lnTo>
                  <a:pt x="0" y="21600"/>
                </a:lnTo>
                <a:close/>
              </a:path>
              <a:path fill="lightenLess" w="28101" h="21600">
                <a:moveTo>
                  <a:pt x="0" y="0"/>
                </a:moveTo>
                <a:lnTo>
                  <a:pt x="28101" y="0"/>
                </a:lnTo>
                <a:lnTo>
                  <a:pt x="26701" y="1400"/>
                </a:lnTo>
                <a:lnTo>
                  <a:pt x="1400" y="1400"/>
                </a:lnTo>
                <a:close/>
              </a:path>
              <a:path fill="darken" w="28101" h="21600">
                <a:moveTo>
                  <a:pt x="28101" y="0"/>
                </a:moveTo>
                <a:lnTo>
                  <a:pt x="28101" y="21600"/>
                </a:lnTo>
                <a:lnTo>
                  <a:pt x="26701" y="20200"/>
                </a:lnTo>
                <a:lnTo>
                  <a:pt x="26701" y="1400"/>
                </a:lnTo>
                <a:close/>
              </a:path>
              <a:path fill="darkenLess" w="28101" h="21600">
                <a:moveTo>
                  <a:pt x="28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1" y="20200"/>
                </a:lnTo>
                <a:close/>
              </a:path>
              <a:path fill="lighten" w="28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1" h="21600">
                <a:moveTo>
                  <a:pt x="7044" y="10800"/>
                </a:moveTo>
                <a:lnTo>
                  <a:pt x="21057" y="3794"/>
                </a:lnTo>
                <a:lnTo>
                  <a:pt x="21057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7236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Сельское хозяйство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1576080"/>
            <a:ext cx="4622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46%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всего экспорта приходится на сельскохозяйственную продукцию: 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мясо, масло, сыр, шер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lnSpc>
                <a:spcPct val="101000"/>
              </a:lnSpc>
              <a:spcBef>
                <a:spcPts val="601"/>
              </a:spcBef>
              <a:spcAft>
                <a:spcPts val="2276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Развиты лесное хозяйство, лесозаготовки, деревообрабатывающая, целлюлозно – бумажная отрас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2320" y="1440000"/>
            <a:ext cx="3613320" cy="2336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83400" y="3843360"/>
            <a:ext cx="2755800" cy="18032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7386480" y="646740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962760" y="6467400"/>
            <a:ext cx="352440" cy="289080"/>
          </a:xfrm>
          <a:custGeom>
            <a:avLst/>
            <a:gdLst>
              <a:gd name="textAreaLeft" fmla="*/ 18720 w 352440"/>
              <a:gd name="textAreaRight" fmla="*/ 333720 w 352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328" h="21600">
                <a:moveTo>
                  <a:pt x="0" y="0"/>
                </a:moveTo>
                <a:lnTo>
                  <a:pt x="26328" y="0"/>
                </a:lnTo>
                <a:lnTo>
                  <a:pt x="26328" y="21600"/>
                </a:lnTo>
                <a:lnTo>
                  <a:pt x="0" y="21600"/>
                </a:lnTo>
                <a:close/>
              </a:path>
              <a:path fill="lightenLess" w="26328" h="21600">
                <a:moveTo>
                  <a:pt x="0" y="0"/>
                </a:moveTo>
                <a:lnTo>
                  <a:pt x="26328" y="0"/>
                </a:lnTo>
                <a:lnTo>
                  <a:pt x="24928" y="1400"/>
                </a:lnTo>
                <a:lnTo>
                  <a:pt x="1400" y="1400"/>
                </a:lnTo>
                <a:close/>
              </a:path>
              <a:path fill="darken" w="26328" h="21600">
                <a:moveTo>
                  <a:pt x="26328" y="0"/>
                </a:moveTo>
                <a:lnTo>
                  <a:pt x="26328" y="21600"/>
                </a:lnTo>
                <a:lnTo>
                  <a:pt x="24928" y="20200"/>
                </a:lnTo>
                <a:lnTo>
                  <a:pt x="24928" y="1400"/>
                </a:lnTo>
                <a:close/>
              </a:path>
              <a:path fill="darkenLess" w="26328" h="21600">
                <a:moveTo>
                  <a:pt x="2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28" y="20200"/>
                </a:lnTo>
                <a:close/>
              </a:path>
              <a:path fill="lighten" w="2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28" h="21600">
                <a:moveTo>
                  <a:pt x="6158" y="10800"/>
                </a:moveTo>
                <a:lnTo>
                  <a:pt x="20171" y="3794"/>
                </a:lnTo>
                <a:lnTo>
                  <a:pt x="20171" y="1780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054920" y="60357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5122" y="3837"/>
                </a:moveTo>
                <a:lnTo>
                  <a:pt x="17698" y="6448"/>
                </a:ln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lnTo>
                  <a:pt x="22085" y="10800"/>
                </a:lnTo>
                <a:lnTo>
                  <a:pt x="20431" y="10800"/>
                </a:lnTo>
                <a:lnTo>
                  <a:pt x="20431" y="17989"/>
                </a:lnTo>
                <a:lnTo>
                  <a:pt x="9813" y="17989"/>
                </a:lnTo>
                <a:lnTo>
                  <a:pt x="9813" y="10800"/>
                </a:lnTo>
                <a:lnTo>
                  <a:pt x="8159" y="10800"/>
                </a:lnTo>
                <a:close/>
              </a:path>
              <a:path fill="darkenLess" w="30244" h="21600">
                <a:moveTo>
                  <a:pt x="17698" y="6448"/>
                </a:moveTo>
                <a:lnTo>
                  <a:pt x="17698" y="4707"/>
                </a:lnTo>
                <a:lnTo>
                  <a:pt x="19474" y="4707"/>
                </a:lnTo>
                <a:lnTo>
                  <a:pt x="19474" y="8224"/>
                </a:lnTo>
                <a:close/>
              </a:path>
              <a:path fill="darkenLess" w="30244" h="21600">
                <a:moveTo>
                  <a:pt x="14200" y="14299"/>
                </a:moveTo>
                <a:lnTo>
                  <a:pt x="16045" y="14299"/>
                </a:lnTo>
                <a:lnTo>
                  <a:pt x="16045" y="17989"/>
                </a:lnTo>
                <a:lnTo>
                  <a:pt x="20431" y="17989"/>
                </a:lnTo>
                <a:lnTo>
                  <a:pt x="20431" y="10800"/>
                </a:lnTo>
                <a:lnTo>
                  <a:pt x="9813" y="10800"/>
                </a:lnTo>
                <a:lnTo>
                  <a:pt x="9813" y="17989"/>
                </a:lnTo>
                <a:lnTo>
                  <a:pt x="14200" y="17989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ванова Н.В. Школа №458</dc:creator>
  <dc:description/>
  <dc:language>en-US</dc:language>
  <cp:lastModifiedBy>Галя</cp:lastModifiedBy>
  <dcterms:modified xsi:type="dcterms:W3CDTF">2010-10-07T12:21:46Z</dcterms:modified>
  <cp:revision>3</cp:revision>
  <dc:subject>География</dc:subject>
  <dc:title>Новая Зеландия</dc:title>
</cp:coreProperties>
</file>